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dt" idx="2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25B21-9F13-4432-BAC1-A3B4FBBFAEB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955D-319B-4FE2-A00F-81297CB68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983B-B01A-4798-B59F-12953B10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BBF5D-F397-40C9-95CE-402918CE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B46BA-BF22-44A6-87A2-8E4795A4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18FD-8D1E-4C75-9A8D-AE728EC3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F1732-10A3-4779-B8B9-24169308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D7F43-E56E-4113-A0C1-E6DA85DD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5493E-FCA2-473C-972C-BFECDFA8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E7AFC-ACE5-4FCE-B0A3-3678B0FD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D012-E74E-4EC4-907C-D2E6E9E0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2B30D-22AA-4807-A790-030FE2D9F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CEBBF-2DA3-465B-808B-556B22290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3ADA-26C7-4ACD-B8B9-8A77C2A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EC375-D5F6-49CA-8933-BCDA02C7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5423E-4807-4F03-ADBE-5CF8C35D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2EEB1-D0E5-4ECA-A802-DFE02DE0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E791D-0AE6-4D0C-A43E-D724F5C5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3D4EBE-C767-42E9-96E6-5F14199B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D11C7-66D9-4171-8E70-79F5C778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1AC89-9989-4A36-8F38-E8EFD084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BC687-3DCE-4E83-AB20-F5B834A5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7BB08-8F27-490B-998F-3CA5A596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73D68-79C3-4D8A-862F-AA1413E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3584-1CB9-4214-AADD-98C8D65BDC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B0013-7732-4961-AA67-7156A4B824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788E8B-E627-40BD-A2CB-32469A08F6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338A94-347A-4300-B648-CB48B002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A4CD5E-B58D-41B7-9E1D-1867D2CD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88C3FE-9925-45AB-878C-31E7EC01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CB2A38-B03D-4157-9AD8-A6CD96B1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FA6EB0-2653-42C4-BDED-B60C4953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04FD5C-53EA-4AA7-8AF2-0F8563CF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663ECE-AFEC-4BA9-B062-99A9528F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1DC096-6503-4BC9-96A8-022EB0C2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42208-4136-431D-8BD2-43BE659C5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6EC4DE-E992-4F59-98F5-2AA3AC45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307BC-DF2D-4F14-B768-99A52CAE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FB4EC-1615-4B98-9B82-CDA948458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8384F-3C93-48B8-84C2-390008983C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6DD88-70E1-4A63-BFE4-2CC6CC96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6B887-B52F-46F7-B28E-452EF4FC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D8AF8-B425-443B-8733-3BB0091E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9F5D8-77FF-4D2C-BDDB-1CD4D071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17A14-E778-4832-9424-E0D10151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0AE10-4176-41C2-A1B1-49653FC3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2B428-771E-4552-B665-98F7FA62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9DFB4-09CE-4B4E-8E95-099AF1A4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0C227-6A37-4F04-B265-06502A3B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FF752-3B03-4FC9-99E2-D0241DDE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7491E-4C08-4299-BC08-E3DEBEBF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C45A3-03EF-4998-90FE-B307EBF35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92B49-3916-412E-86F1-6260A2D7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5749B-22EE-4661-A8AB-F6C99695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A8D1B-4CA2-4BC9-B996-ADC4F5B4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CAA93-1AC9-44E0-9B6C-70D4C0BF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F2025-EE93-4C17-BFA9-F0BADDE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5611-AE5D-4FFC-B15C-9C2D7A34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B8B47-BE69-4EE3-8AEB-E32E29DA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099B1-5374-471C-9DBA-A95F9F97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C7D7B-4D61-4D96-8869-117FC811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38F30-5D12-4166-BE54-F644E7E0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F9B33-6267-455F-AE31-42F2FFF774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7545-C301-4243-9F32-BAF73FBB1D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E9EC-E54E-4DD5-8E96-9E5620A3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3C85-B499-4A28-8F20-4A575C8F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CA82-3EEC-494B-AC1C-69596AB6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A35E-8DCF-4968-92F1-60EF0DD4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3A822-0164-4BE5-BE14-FB258EEC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62E3-0E7E-4C20-AD06-1D772222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348C-D2B8-40C5-BB4B-396FDBFE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66FF-81B6-4C6C-9479-3CCC4C1A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B529-E17C-41A9-8847-EA0DF2C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7E62-2239-498F-9CBA-19DF92AD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490C-2962-4C8A-90D8-EBE67C8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4D1A-E398-4A94-A42B-FBAF7A9ED3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8E0AC-1B4C-4F40-9ABF-9193C7887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EB670-A495-4B1A-B5AC-97B5F843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16BF0-05AD-4BE1-8F7D-3040A76D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E16F-97D8-4421-BE4D-A94955E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3260D-4F47-4333-B4A5-DE169950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20C38-6314-4B16-940F-3401CF97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BC11E-E19C-4377-AE52-EF5809CA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59929-3A55-43A7-9152-2849D225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5A876-3E1B-49D7-8919-10B354DE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2AA68-A70B-4222-B982-962351FA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F606D-9B34-4705-A49D-66104817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787DB-4F72-438C-9F30-1137730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B0F37-1BCD-4A14-AA76-C8D843ADF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7B448-7E75-4087-BEC2-0F8E6A172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5E40-5E91-4AD6-9E8B-804FC6C9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90E2C-C356-4D05-ABC4-DD7DA42F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893AE-2B34-44B6-A6A7-CE9E8BE3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E1601-A4CB-4D31-A089-969E4588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A7C97-5C5C-4BAB-AEF7-3AA507D6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D0A77-FE2B-4DF8-8250-DFF4DADE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E90EE-C665-4160-AFD6-3F675DF5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956D4-21B6-40FE-B8F1-BDD1E468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98469-18C9-48CA-9B7C-0B067AE4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ECACE-100C-451D-A01D-72005421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C017C-BB27-4289-97CB-17AB107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651B-18CF-4F32-AAE3-15BBB93F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8A385-C056-4441-A67E-4CC290212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8D73-3E98-4C9D-A140-5AE9E83E3C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7DAE4-4C42-44A1-8279-D87CF9C8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6F7B-6269-4195-97E5-D934990C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084C-744C-4FCC-97A2-7E8AEF93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66E4-709F-474F-B51A-79F604A9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D2A0-0B61-4ACF-AC0E-95146261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D1A8A-9008-4B34-B301-025271EE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D013-C4EF-487D-8A96-953B033A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783F4-D60D-4DF5-88F4-6364F4F4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F6C0-E203-429A-BE04-045E0CAE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6887-93D0-466A-9125-9C9145B2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EE39-6D2F-4021-8E33-F87752AC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C2613-A7B0-4124-BDD7-BB94BA7D69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94309-5B8D-438A-8744-AF463A0C92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F6ED6-9DB5-4CD1-9026-E45ECA6E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5D7DB-8ED3-4A58-88C5-D8A90155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B00E0-DD4E-46F3-980B-298AA74E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AAEA4-FA15-4366-8C63-EAFD5613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FD993-8733-41CA-B356-66DCB246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9DF34-7D2F-42FE-8F7A-3257D2B5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3DE8-E166-4FBD-A73F-82FABA7F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4D170-501F-4757-A515-A9ACF55E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6F84E-27A3-458F-9B08-227434B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255A0-E392-4108-86F5-881FB1CE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CA3B1-CEBA-4175-BDE5-B93275F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07D6C-A154-46E3-896A-73BC71FB8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E1A0A2-9183-4869-91B6-523E7FAC98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BBDF5-01E9-44EF-A9D8-7A80769F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BFD23F-A436-4AAA-8033-441438D3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5C5E35-17BE-4C56-A5AC-0128491E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EF1E37-6B42-494B-A010-2B01B5BF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7468-8C78-4DEE-88BC-A2CFFBC6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13650-729B-4164-B483-943706C1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0A48DE-51FA-44F5-9527-8A1F2A54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1719F-5317-4015-BC36-CB229256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050B21-900B-402D-B689-215E7B24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F2AE91-45B0-40D8-BA4A-A71BE372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72A0DF-0111-46EB-821E-20F50EC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835472-21DC-4DA5-90EE-08AAC73738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A570-4260-468B-9EBB-C3A08DAEDF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F2E5F-D7F0-4CC8-BC18-1A5CC0D1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F0BD7-492A-4C21-B82D-98564C9A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4/03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6A6C-9730-4A7C-8BD8-ADC045CA11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080" y="4800240"/>
            <a:ext cx="548316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792080" y="5366880"/>
            <a:ext cx="54831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5472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24017-8C33-4469-B6FC-1C0FBCD3428C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C9295-7A01-45F2-8509-6E3F8CDA2EA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054160" cy="584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6840" y="274320"/>
            <a:ext cx="601668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626C9-DF96-4D5C-9979-2C42010B546C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75394-102E-4064-8B1B-0A5FBF267070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215AD-E163-4F7E-AE40-C15BDFE1E01D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69520" cy="13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906280"/>
            <a:ext cx="776952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2000"/>
          </a:bodyPr>
          <a:p>
            <a:pPr marL="10944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CBBE4-DE93-4390-AFED-7D2DCE578E3B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20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20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D96A3-8B1C-4277-B0C2-D16F096CA44E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704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2000"/>
          </a:bodyPr>
          <a:p>
            <a:pPr marL="4104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0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18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0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18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C9854-F725-4EE5-B716-CB7EA8244F1F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07883-312F-4A35-9BF3-5AC626A49C1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E1A9D-FC84-4A5A-A7C6-00F4CE8CCE2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5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7ED7D-AE26-4C03-A0AB-C77090B2BC4B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8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480" y="11160"/>
            <a:ext cx="9173880" cy="68342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0" y="501336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8f8f8"/>
                </a:solidFill>
                <a:latin typeface="Arial Black"/>
              </a:rPr>
              <a:t>NTE NOVA ANDRA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2527200"/>
            <a:ext cx="9144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6000" y="576360"/>
            <a:ext cx="8712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2527200"/>
            <a:ext cx="9144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360" y="684360"/>
            <a:ext cx="87836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627280" y="5411880"/>
            <a:ext cx="6337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94715"/>
                </a:solidFill>
                <a:latin typeface="Arial Black"/>
              </a:rPr>
              <a:t>NÚCLEO DE TECNOLOGIA EDUC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94715"/>
                </a:solidFill>
                <a:latin typeface="Arial Black"/>
              </a:rPr>
              <a:t>NOVA ANDRADINA –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94715"/>
                </a:solidFill>
                <a:latin typeface="Arial Black"/>
              </a:rPr>
              <a:t>0800 647 4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647640" y="5472000"/>
            <a:ext cx="1871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23:28:51Z</dcterms:created>
  <dc:creator>fbaptista</dc:creator>
  <dc:description/>
  <dc:language>en-US</dc:language>
  <cp:lastModifiedBy/>
  <dcterms:modified xsi:type="dcterms:W3CDTF">2016-03-14T19:50:15Z</dcterms:modified>
  <cp:revision>255</cp:revision>
  <dc:subject/>
  <dc:title>Slide 1</dc:title>
</cp:coreProperties>
</file>